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5EFB-739D-44CF-8FE3-CEBA2AC4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E50-429F-4985-BB2B-602C526D2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6DC6-B981-4E8B-89CC-914B92F9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ACE-7D9A-4224-A011-0C4300EC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7C9-C8B2-45A2-85A0-BDC5372C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EA7-BA89-467E-9185-511C15E0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84A-2C3A-4E4C-A0B8-79E78FED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1D2-D25A-47A8-B469-87D181D2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77C0-BBB7-4C32-95FA-456FF326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194-18AC-457F-AC0F-523538A2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1EDF-86A4-4785-B767-FA278470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32BB-B77A-4E02-8C1B-72A40B1B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D25-0EA5-49F8-8BD5-13DA3CCA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6DE-B131-4690-8C54-9C40CD03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A8C-E2F1-4490-B19B-39EB4BE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6CB-2D7D-4082-B456-CC89C1A3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931-ECF3-43CD-88FC-C2C6A981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02-DDA3-492A-B9E7-5E10131A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340-65AF-4577-8920-4740EF72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394-D69C-46B4-9351-E23CADB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FA8-5D0C-43C7-8481-80A0891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1CA-A341-4A05-95A6-5F068EE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54C-7339-4673-ADA2-2499EBE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A7A-DF58-42DD-9D22-12267BD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9BB-F2B5-43E4-8E30-EADB53D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D6FF-1A5B-4566-A380-59EBF011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ikia.com/risk/images/a/a7/8Di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ikia.com/risk/images/a/a7/8Di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4 Probability of Compound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wo six-sided die are tossed, there are 36 out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probability the sum is NOT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-1800" y="495288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1-(sum is 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-360" y="5867280"/>
            <a:ext cx="45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1-5/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-360" y="6705720"/>
            <a:ext cx="54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31/36≈.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3047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is greater than or equal to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≥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1-(P(sum&lt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- 3/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33/36=11/12 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27#42-45 Show A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write the question or identify the given information using the format of th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96960" y="3782160"/>
            <a:ext cx="2263680" cy="24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505320" y="3429000"/>
            <a:ext cx="3085920" cy="325116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343400" y="4267080"/>
            <a:ext cx="1510920" cy="1544040"/>
            <a:chOff x="4343400" y="4267080"/>
            <a:chExt cx="1510920" cy="1544040"/>
          </a:xfrm>
        </p:grpSpPr>
        <p:sp>
          <p:nvSpPr>
            <p:cNvPr id="53" name="Oval 7"/>
            <p:cNvSpPr/>
            <p:nvPr/>
          </p:nvSpPr>
          <p:spPr>
            <a:xfrm>
              <a:off x="5167440" y="43858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5236200" y="50986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5511240" y="450504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5785560" y="521748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4686840" y="569232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4412160" y="4742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4343400" y="42670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4755240" y="4861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5236200" y="569232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1028880" y="4267080"/>
            <a:ext cx="1510920" cy="1544040"/>
            <a:chOff x="1028880" y="4267080"/>
            <a:chExt cx="1510920" cy="1544040"/>
          </a:xfrm>
        </p:grpSpPr>
        <p:sp>
          <p:nvSpPr>
            <p:cNvPr id="63" name="Oval 17"/>
            <p:cNvSpPr/>
            <p:nvPr/>
          </p:nvSpPr>
          <p:spPr>
            <a:xfrm>
              <a:off x="1852920" y="43858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1921680" y="50986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2196720" y="450504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471040" y="521748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1372320" y="569232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1097640" y="4742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1028880" y="42670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1440720" y="4861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1921680" y="569232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on of A &amp;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"/>
          <p:cNvSpPr/>
          <p:nvPr/>
        </p:nvSpPr>
        <p:spPr>
          <a:xfrm>
            <a:off x="914400" y="2971800"/>
            <a:ext cx="3143160" cy="386064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371600" y="4064040"/>
            <a:ext cx="1510920" cy="1544040"/>
            <a:chOff x="1371600" y="4064040"/>
            <a:chExt cx="1510920" cy="1544040"/>
          </a:xfrm>
        </p:grpSpPr>
        <p:sp>
          <p:nvSpPr>
            <p:cNvPr id="75" name="Oval 37"/>
            <p:cNvSpPr/>
            <p:nvPr/>
          </p:nvSpPr>
          <p:spPr>
            <a:xfrm>
              <a:off x="2195640" y="41828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8"/>
            <p:cNvSpPr/>
            <p:nvPr/>
          </p:nvSpPr>
          <p:spPr>
            <a:xfrm>
              <a:off x="2264400" y="48956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9"/>
            <p:cNvSpPr/>
            <p:nvPr/>
          </p:nvSpPr>
          <p:spPr>
            <a:xfrm>
              <a:off x="2539440" y="430200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0"/>
            <p:cNvSpPr/>
            <p:nvPr/>
          </p:nvSpPr>
          <p:spPr>
            <a:xfrm>
              <a:off x="2813760" y="5014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1"/>
            <p:cNvSpPr/>
            <p:nvPr/>
          </p:nvSpPr>
          <p:spPr>
            <a:xfrm>
              <a:off x="1715040" y="548928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2"/>
            <p:cNvSpPr/>
            <p:nvPr/>
          </p:nvSpPr>
          <p:spPr>
            <a:xfrm>
              <a:off x="1440360" y="45392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3"/>
            <p:cNvSpPr/>
            <p:nvPr/>
          </p:nvSpPr>
          <p:spPr>
            <a:xfrm>
              <a:off x="1371600" y="40640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4"/>
            <p:cNvSpPr/>
            <p:nvPr/>
          </p:nvSpPr>
          <p:spPr>
            <a:xfrm>
              <a:off x="1783440" y="465840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5"/>
            <p:cNvSpPr/>
            <p:nvPr/>
          </p:nvSpPr>
          <p:spPr>
            <a:xfrm>
              <a:off x="2264400" y="5489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Oval 46"/>
          <p:cNvSpPr/>
          <p:nvPr/>
        </p:nvSpPr>
        <p:spPr>
          <a:xfrm>
            <a:off x="3124080" y="3048120"/>
            <a:ext cx="3143520" cy="386064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7"/>
          <p:cNvGrpSpPr/>
          <p:nvPr/>
        </p:nvGrpSpPr>
        <p:grpSpPr>
          <a:xfrm>
            <a:off x="4229280" y="4165560"/>
            <a:ext cx="1510920" cy="1544040"/>
            <a:chOff x="4229280" y="4165560"/>
            <a:chExt cx="1510920" cy="1544040"/>
          </a:xfrm>
        </p:grpSpPr>
        <p:sp>
          <p:nvSpPr>
            <p:cNvPr id="86" name="Oval 48"/>
            <p:cNvSpPr/>
            <p:nvPr/>
          </p:nvSpPr>
          <p:spPr>
            <a:xfrm>
              <a:off x="5053320" y="42843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9"/>
            <p:cNvSpPr/>
            <p:nvPr/>
          </p:nvSpPr>
          <p:spPr>
            <a:xfrm>
              <a:off x="5122080" y="49971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0"/>
            <p:cNvSpPr/>
            <p:nvPr/>
          </p:nvSpPr>
          <p:spPr>
            <a:xfrm>
              <a:off x="5397120" y="440352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1"/>
            <p:cNvSpPr/>
            <p:nvPr/>
          </p:nvSpPr>
          <p:spPr>
            <a:xfrm>
              <a:off x="5671440" y="511596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2"/>
            <p:cNvSpPr/>
            <p:nvPr/>
          </p:nvSpPr>
          <p:spPr>
            <a:xfrm>
              <a:off x="4572720" y="559080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4298040" y="46407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4"/>
            <p:cNvSpPr/>
            <p:nvPr/>
          </p:nvSpPr>
          <p:spPr>
            <a:xfrm>
              <a:off x="4229280" y="41655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5"/>
            <p:cNvSpPr/>
            <p:nvPr/>
          </p:nvSpPr>
          <p:spPr>
            <a:xfrm>
              <a:off x="4641120" y="475992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6"/>
            <p:cNvSpPr/>
            <p:nvPr/>
          </p:nvSpPr>
          <p:spPr>
            <a:xfrm>
              <a:off x="5122080" y="559080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7"/>
          <p:cNvGrpSpPr/>
          <p:nvPr/>
        </p:nvGrpSpPr>
        <p:grpSpPr>
          <a:xfrm>
            <a:off x="3200400" y="4343400"/>
            <a:ext cx="688680" cy="957960"/>
            <a:chOff x="3200400" y="4343400"/>
            <a:chExt cx="688680" cy="957960"/>
          </a:xfrm>
        </p:grpSpPr>
        <p:sp>
          <p:nvSpPr>
            <p:cNvPr id="96" name="Oval 58"/>
            <p:cNvSpPr/>
            <p:nvPr/>
          </p:nvSpPr>
          <p:spPr>
            <a:xfrm>
              <a:off x="3200400" y="4343400"/>
              <a:ext cx="68760" cy="1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9"/>
            <p:cNvSpPr/>
            <p:nvPr/>
          </p:nvSpPr>
          <p:spPr>
            <a:xfrm>
              <a:off x="3269160" y="5062320"/>
              <a:ext cx="68760" cy="1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0"/>
            <p:cNvSpPr/>
            <p:nvPr/>
          </p:nvSpPr>
          <p:spPr>
            <a:xfrm>
              <a:off x="3544920" y="4463280"/>
              <a:ext cx="68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1"/>
            <p:cNvSpPr/>
            <p:nvPr/>
          </p:nvSpPr>
          <p:spPr>
            <a:xfrm>
              <a:off x="3820320" y="5182200"/>
              <a:ext cx="6876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2720" y="0"/>
            <a:ext cx="6172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(A or B) you must consider what outcomes, if any, are in the intersection of A and 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are none, then A and B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(A or B) = P(A)+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not mutually exclusive, then the outcomes in the intersection or A &amp; B are counted twice when P(A) &amp; P(B) ar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(A &amp; B) must be subtracted once from the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3555720"/>
            <a:ext cx="61722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ight-sided die is rol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of rolling 2 or 7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A or B) = P(A) + P(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/8 + 1/8 = 2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9" descr="76px-8D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371600"/>
            <a:ext cx="20574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ight-sided die is rolled. What is the probability of rolling a multiple of 3 or a multiple of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3, 6 = 2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2, 4, 6, 8 = 4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A or 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A) + P(B) – P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A or B) = 2/8 + 4/8 – 1/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/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.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9" descr="76px-8D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295280"/>
            <a:ext cx="1447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172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200 athletes, 122 students were honored at an academic awards banquet, 48 won awards for mathematics and 78 for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obability that an athlete won both a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2680" y="4648320"/>
            <a:ext cx="38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1440" y="541008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M or E)=P(M)+P(E)-P(M and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7010280"/>
            <a:ext cx="6858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(M and E) =48/200+78/200-122/2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6172200"/>
            <a:ext cx="67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2/200=48/200+78/200-P(M and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20" y="77724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M and E) =4/200=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omplement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946240"/>
            <a:ext cx="61722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 A’, calle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vent A, consists of all outcom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A’ is read ‘A prim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of the complement of an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ability of the complement of A i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’) = 1 - P(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0:37:49Z</dcterms:created>
  <dc:creator>Meriam P Freeman</dc:creator>
  <dc:description/>
  <dc:language>en-US</dc:language>
  <cp:lastModifiedBy>sraja</cp:lastModifiedBy>
  <dcterms:modified xsi:type="dcterms:W3CDTF">2011-05-12T11:53:22Z</dcterms:modified>
  <cp:revision>9</cp:revision>
  <dc:subject/>
  <dc:title>12.4 Probability of Compound Events</dc:title>
</cp:coreProperties>
</file>